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280400" cy="4140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0060-03A1-4B84-AAEF-220EF7F3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5F8E-B848-43FB-9916-E57C82A7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D03C-550F-48CA-BEA2-D4377C4B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368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820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952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368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9820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BC92-6E05-44BF-A71E-48C2AB85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3067-9157-4E4F-A83A-4D8BB238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6BE9-AFCA-4F3A-965D-E7E7E904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F2D9-C345-4C35-A324-8CDAC020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3688-87D6-4A20-9B25-BEBD0F4D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9520" y="220680"/>
            <a:ext cx="714060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AC78-B4DD-460D-AF70-CA6BACE2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EC9C-24EE-44DC-A23F-C7497051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617E-0BF3-4CBD-89A4-67FDD1D3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9131-D4F7-4914-82A3-4EC55513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2920" indent="-13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890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96516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952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3836520"/>
            <a:ext cx="2793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4784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A1E1213B-E905-472E-A748-BE63C7DED072}" type="slidenum">
              <a:rPr b="0" lang="en-US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1511280" y="-801720"/>
            <a:ext cx="10234440" cy="2327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604880" y="178596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000" spc="-1" strike="noStrike">
                <a:solidFill>
                  <a:srgbClr val="1f4e79"/>
                </a:solidFill>
                <a:latin typeface="Calibri"/>
              </a:rPr>
              <a:t>Davet Met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3730680" y="604800"/>
            <a:ext cx="823680" cy="824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604880" y="2998800"/>
            <a:ext cx="50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600" spc="-1" strike="noStrike">
                <a:solidFill>
                  <a:srgbClr val="1f4e79"/>
                </a:solidFill>
                <a:latin typeface="Calibri"/>
              </a:rPr>
              <a:t>İm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0"/>
            <a:ext cx="8280360" cy="4138560"/>
          </a:xfrm>
          <a:prstGeom prst="rect">
            <a:avLst/>
          </a:prstGeom>
          <a:solidFill>
            <a:srgbClr val="162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92040" y="430200"/>
            <a:ext cx="50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92040" y="849240"/>
            <a:ext cx="5068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Lorem ipsum dolor sit amet, consectetur adipiscing eli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Aenean sit amet quam commodo, facilisis lectus eget, pellentesque maur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92040" y="3065400"/>
            <a:ext cx="506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Yer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Ege Üniversitesi Kampüsü, Bornova/İZMİR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Tarih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00 Haziran 2018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Saat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20.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2200320" y="1854360"/>
            <a:ext cx="6087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06:11:59Z</dcterms:created>
  <dc:creator>Microsoft Office User</dc:creator>
  <dc:description/>
  <dc:language>en-US</dc:language>
  <cp:lastModifiedBy>Microsoft Office User</cp:lastModifiedBy>
  <dcterms:modified xsi:type="dcterms:W3CDTF">2018-04-02T06:36:08Z</dcterms:modified>
  <cp:revision>4</cp:revision>
  <dc:subject/>
  <dc:title>PowerPoint Presentation</dc:title>
</cp:coreProperties>
</file>